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238-B119-4BFE-AB39-1D054F80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652-B2E9-4A05-8FFC-FFE62560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C24-3E5F-4D83-9B4A-A10819E9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C0C-46A2-4F47-A0C4-C762CAA0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9EA-AD42-4378-93F8-9E99C709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EE4-0877-4321-B4D6-B2CBE021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6BF-43AD-40E9-A209-5DAFCBE0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63A-0740-47D7-BAB4-D9D8D451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884B-E51F-42C5-905A-9B3BBBAE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0A9-B4CC-4EC8-8C3E-92AD235D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E40-6296-4764-8F0A-C3EB57FE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754-C738-4A48-9FF8-EA78266E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9386-3C85-4BC8-BCB9-FEB35D410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50states.com/rhodeisland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hyperlink" Target="http://bensguide.gpo.gov/3-5/state/rhodeisland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postcardsfrom.com/t1/971114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304920"/>
            <a:ext cx="81536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3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hode Island</a:t>
            </a:r>
            <a:endParaRPr b="0" lang="en-US" sz="1800" spc="1" strike="noStrike">
              <a:ln w="63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257800" y="487692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90920" y="5181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5638680"/>
            <a:ext cx="198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hode Island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/7/2010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50states.com/rhode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Name: Rhod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Capital: Pro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: 1,048,3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ed the Union: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5/29/17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to: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kname: The Ocean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er: Vio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d: Rhode Island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g: Rhode Island, Its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Behind Name: From the Greek Island of R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15000" y="3276720"/>
            <a:ext cx="1422360" cy="166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38880" y="464832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876920" y="43430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Facts: Flag means symbol of authority, Rhode Island is the smallest state in America ,there mineral is Bowenite, and there rock is cumberland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4583160" cy="3886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90920" y="6545160"/>
            <a:ext cx="464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Rhode Island: Map and State Flag"/>
          <p:cNvPicPr/>
          <p:nvPr/>
        </p:nvPicPr>
        <p:blipFill>
          <a:blip r:embed="rId2"/>
          <a:srcRect l="5130" t="47545" r="5130" b="0"/>
          <a:stretch/>
        </p:blipFill>
        <p:spPr>
          <a:xfrm>
            <a:off x="5181480" y="304920"/>
            <a:ext cx="3733920" cy="4267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Rhode Island: Map and State Flag"/>
          <p:cNvPicPr/>
          <p:nvPr/>
        </p:nvPicPr>
        <p:blipFill>
          <a:blip r:embed="rId3"/>
          <a:srcRect l="0" t="0" r="0" b="62133"/>
          <a:stretch/>
        </p:blipFill>
        <p:spPr>
          <a:xfrm>
            <a:off x="380880" y="22860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5867280"/>
            <a:ext cx="8534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 Rhode Island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ptember 22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ensguide.gpo.gov/3-5/state/rhodeislan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All images Copyright © 1997 - 2000 WriteLine. All Rights Reserved."/>
          <p:cNvPicPr/>
          <p:nvPr/>
        </p:nvPicPr>
        <p:blipFill>
          <a:blip r:embed="rId1"/>
          <a:srcRect l="3333" t="4862" r="3333" b="13238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5867280"/>
            <a:ext cx="60962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Jamestown, RI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9/23/2010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71114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380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ves are beautiful when th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the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0:17Z</dcterms:created>
  <dc:creator>install</dc:creator>
  <dc:description/>
  <dc:language>en-US</dc:language>
  <cp:lastModifiedBy>install</cp:lastModifiedBy>
  <dcterms:modified xsi:type="dcterms:W3CDTF">2010-10-14T13:19:44Z</dcterms:modified>
  <cp:revision>11</cp:revision>
  <dc:subject/>
  <dc:title>Slide 1</dc:title>
</cp:coreProperties>
</file>